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338-D636-4213-8ADB-5A725F8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92B-6E0A-41B2-A0B9-895A8B7A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09A-B9D7-4DEC-B5EF-1961D8D1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90C-97F7-477E-9287-2A2C1DA0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591-3D1E-46F6-8ABE-09082993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5363-BCD7-49C4-8C67-EE6711B6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5044-4CBD-439D-AD94-68D965DE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995-5079-461B-A06B-97540B1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0CC-1D1B-48EF-9528-D696210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B06D-9AC2-4993-AEBD-1171115B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AC1-B755-4D5A-88E5-CF1E9DC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EEA-4087-4BC4-81E6-43DE795F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666E-FDE1-47EA-A076-65472AD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3477-A972-485C-9ED9-701763B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6D45-D256-4D62-A6AE-3E6A2FB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FA8-AFA3-407B-BCB1-FED42CFE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458D-DE6A-48FD-B691-7C198F4B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F01-3B3F-43E0-BDEE-935F165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466-43C4-40B8-9743-64DB758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D0B-92B7-4FD8-88D0-7A43A15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6EA-5D0B-4581-A1B8-E871E97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7F9-9814-47BF-9718-C5B6812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2B5-FB4E-4D3A-BB49-ACAFBCB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687-946F-47CB-A780-28B33BA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4D8-7233-4D5F-9395-9C85A617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1BBA-1009-4941-8351-36F40A4A0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Times New Roman"/>
              </a:rPr>
              <a:t>RIC28: Globular cluster proper mo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alactic Bulge or Magellanic 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ular size restricted (53”x53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ground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 ‘point’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48360" y="1844640"/>
          <a:ext cx="378756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844640"/>
                    <a:ext cx="378756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Times New Roman"/>
              </a:rPr>
              <a:t>RIQ236 On chip co-add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ata reduction is desi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T0 (~ few sec integration)   1Gb x N T0 x M 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hift and add         N=30, M=10: 300G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T1 (30 – 60 sec integration) 1 Gb x N T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egrid and add       N=30:              30G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T2 Total exposure time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                           1G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tegration is desi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aint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Times New Roman"/>
              </a:rPr>
              <a:t>RIQ 239 Large offset re-acquisi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(x,y) detectors   (T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(x,y) detector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(x,y) on sky plane (T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) intra epoch (T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4508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ifferential tilt jitter, tel. Instabilitie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Type: Full astrome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Ref frame: point sources on the sky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 der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3357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O+MICADO geometric distortion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Type: 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Ref frame: calibration 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205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etector plane, gaps, rotations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Type: 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Ref frame: calibration 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38:31Z</dcterms:created>
  <dc:creator>Erik</dc:creator>
  <dc:description/>
  <dc:language>en-US</dc:language>
  <cp:lastModifiedBy>Erik</cp:lastModifiedBy>
  <dcterms:modified xsi:type="dcterms:W3CDTF">2009-11-29T14:30:36Z</dcterms:modified>
  <cp:revision>2</cp:revision>
  <dc:subject/>
  <dc:title>Dia 1</dc:title>
</cp:coreProperties>
</file>